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10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092C-7ABB-47AB-9366-810BD6762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EB09-CA1A-44F9-B3B0-F1DEA29FB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C386-51B4-4FE1-AA5C-37F492950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339B-5346-48B7-A99D-3792C82E5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1FDEF-6363-4068-928C-F3A12A70D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96D6C-AB7D-4322-A8B4-6767ACEC0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364A3-1299-467A-AFA2-F1DBC3E84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13F61-C2B2-49F6-96F7-07D056230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D0C18-85D6-44CE-A52B-259D0B100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5D1B1-8AE5-4139-8E96-CC87814A8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B0B06-22CF-468D-9BFE-9C2455A8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8CF6-4277-4019-B172-BDA7C39D9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81F1E-C590-4EC2-AC34-2D5A035A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B7694-A0B9-4080-BC50-F7222670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9AE31-13F2-484F-9B5E-8A1933165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7E9C3-A678-45E1-A7E8-B094422A5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BB6DB-F348-4A06-9A92-4A2659A91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EDF65-E797-4FA9-809A-D1E68C45A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FE00F-C32E-497F-BBCB-C26F44612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9A730-C0DD-40E0-97B5-7677F85A6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6AE2A-A71E-46E0-8274-BDCFA0348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00138-3378-49F5-A336-A4917D6BE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F38F-09AF-4123-BC69-529213FA9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D28EE-2C33-4371-B9A9-BB8DAD0FD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E5210-8B0D-4961-B852-1EDE9049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48CBF-C0D8-4DAB-A7C8-D5C14AE3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14909-F66B-4CFC-AF2F-4C9AD25F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163B6-3265-463E-992D-733ABB4E6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0C2C4-38C7-4722-9689-4474A8CED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6136B-1BFE-457A-ABEB-32121640C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625EF6-D99A-4422-A285-7ABB37A7D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86FA65-74C2-49B0-9B3F-194C873A3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8DBDC2-83F1-4499-8719-C594E7E2A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B2C9-906C-4280-9676-B6E97689F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BE64F6-A2D8-4A45-B68D-121A093AB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02F384-113C-436B-85A4-1985FCBE0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B960B6-B236-4341-8BAD-BFA92B313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C94B5F-7CF6-4A23-B87B-4985CCF6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4E9288-216A-4C0F-B783-766E4BC6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EA7025-F956-465C-8011-1C13520B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48934C-E6C1-4826-8B4F-F17EB253E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631A81-9D16-4B88-9259-CBA663BEC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222341-7BFF-480F-A534-A5F65CE8C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E4DEB-5DF8-4DE5-AF7E-86FB4F3BD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8AC6-2304-4320-B0AB-5ADFE65CB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8F0A8-A1E1-458F-8979-0572C6132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5C6AF-2D4C-4557-B084-9538E75D3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17E00-4C8D-4AF5-BDD4-D06C1C576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79F3D-CF90-4648-822A-45592F8D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909E6-5E9A-4D3E-94F8-011F71508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611ED-D5A8-4348-8076-ABFB2D30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12750-F7D2-420B-9272-FBB791EE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DAE84-8632-4E24-8A83-E7AA3537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09F21-3C45-4276-A25F-0992B8B67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B8AB0-F122-4A8D-A4D3-8AED9DBA8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0D45-F3D0-47B4-A6AB-5AE149E84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F27C8-492C-4B7E-90E5-7EAE5A02D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2088B-6C88-4754-8415-201C8B1ED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B91F9-3337-4105-B0FA-063EB92E7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8F7C1-BBFA-4941-B5EC-0A8DA38D5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9412B4-AE70-4860-85A0-CE2842D32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9B1EA-2205-40AB-A60A-EA9F74320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4204C4-D54C-474D-9180-9671FCA53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D4E79-0DCA-4D40-92C4-28A98CCD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7A384-AF12-4508-B4F0-762ECC71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46BAF-5605-4602-8CDF-157C4857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D6C5-3115-4D32-9692-92A353BB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954D8-3475-435F-9B11-982B08453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01959-57C4-44EE-BEEB-D8DB7ED56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1899C-34DE-4F73-A57B-F41D358A7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E14C68-50DD-4ED2-9C55-72F93498C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2171E9-CE67-4E18-86CF-1BC164224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45B26-F497-4999-8703-A50DCA4C3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30782-E539-41F2-B213-34C4F38B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DF4F3-05FE-4EDB-AE1E-E40344F47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1CC9A-993F-4675-89FE-97784C726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D3D02D-0EB2-4AAA-B559-F1B0DC68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3CEB-DCEF-4E14-B7E6-95957B73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18B94-8C1E-40B7-BDAF-F759BDA6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04DAA-0C9A-4D2A-97C2-830A26E4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B0E81-B68A-45A0-A8F8-928B39243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B05C8D-C840-4AB7-B137-4130084B6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907D48-8042-499D-AB95-E8DAA4DEB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C710-36DF-4A8E-ACF4-7F3D8C38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61.xml"/><Relationship Id="rId35" Type="http://schemas.openxmlformats.org/officeDocument/2006/relationships/slideLayout" Target="../slideLayouts/slideLayout62.xml"/><Relationship Id="rId36" Type="http://schemas.openxmlformats.org/officeDocument/2006/relationships/slideLayout" Target="../slideLayouts/slideLayout63.xml"/><Relationship Id="rId37" Type="http://schemas.openxmlformats.org/officeDocument/2006/relationships/slideLayout" Target="../slideLayouts/slideLayout64.xml"/><Relationship Id="rId38" Type="http://schemas.openxmlformats.org/officeDocument/2006/relationships/slideLayout" Target="../slideLayouts/slideLayout65.xml"/><Relationship Id="rId39" Type="http://schemas.openxmlformats.org/officeDocument/2006/relationships/slideLayout" Target="../slideLayouts/slideLayout66.xml"/><Relationship Id="rId40" Type="http://schemas.openxmlformats.org/officeDocument/2006/relationships/slideLayout" Target="../slideLayouts/slideLayout67.xml"/><Relationship Id="rId41" Type="http://schemas.openxmlformats.org/officeDocument/2006/relationships/slideLayout" Target="../slideLayouts/slideLayout68.xml"/><Relationship Id="rId42" Type="http://schemas.openxmlformats.org/officeDocument/2006/relationships/slideLayout" Target="../slideLayouts/slideLayout69.xml"/><Relationship Id="rId43" Type="http://schemas.openxmlformats.org/officeDocument/2006/relationships/slideLayout" Target="../slideLayouts/slideLayout70.xml"/><Relationship Id="rId44" Type="http://schemas.openxmlformats.org/officeDocument/2006/relationships/slideLayout" Target="../slideLayouts/slideLayout71.xml"/><Relationship Id="rId4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73.xml"/><Relationship Id="rId32" Type="http://schemas.openxmlformats.org/officeDocument/2006/relationships/slideLayout" Target="../slideLayouts/slideLayout74.xml"/><Relationship Id="rId33" Type="http://schemas.openxmlformats.org/officeDocument/2006/relationships/slideLayout" Target="../slideLayouts/slideLayout75.xml"/><Relationship Id="rId34" Type="http://schemas.openxmlformats.org/officeDocument/2006/relationships/slideLayout" Target="../slideLayouts/slideLayout76.xml"/><Relationship Id="rId35" Type="http://schemas.openxmlformats.org/officeDocument/2006/relationships/slideLayout" Target="../slideLayouts/slideLayout77.xml"/><Relationship Id="rId36" Type="http://schemas.openxmlformats.org/officeDocument/2006/relationships/slideLayout" Target="../slideLayouts/slideLayout78.xml"/><Relationship Id="rId37" Type="http://schemas.openxmlformats.org/officeDocument/2006/relationships/slideLayout" Target="../slideLayouts/slideLayout79.xml"/><Relationship Id="rId38" Type="http://schemas.openxmlformats.org/officeDocument/2006/relationships/slideLayout" Target="../slideLayouts/slideLayout80.xml"/><Relationship Id="rId39" Type="http://schemas.openxmlformats.org/officeDocument/2006/relationships/slideLayout" Target="../slideLayouts/slideLayout81.xml"/><Relationship Id="rId40" Type="http://schemas.openxmlformats.org/officeDocument/2006/relationships/slideLayout" Target="../slideLayouts/slideLayout82.xml"/><Relationship Id="rId41" Type="http://schemas.openxmlformats.org/officeDocument/2006/relationships/slideLayout" Target="../slideLayouts/slideLayout83.xml"/><Relationship Id="rId42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a4"/>
                    </a:gs>
                    <a:gs pos="100000">
                      <a:srgbClr val="00006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4e8ac"/>
                    </a:gs>
                    <a:gs pos="100000">
                      <a:srgbClr val="0000a4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4e8ac"/>
                    </a:gs>
                    <a:gs pos="100000">
                      <a:srgbClr val="8f5fd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f5fd5"/>
                    </a:gs>
                    <a:gs pos="100000">
                      <a:srgbClr val="0000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04e8a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8f5fd5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cc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D129A-C6BA-4F80-81F9-92D199BC71DF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a4"/>
                      </a:gs>
                      <a:gs pos="100000">
                        <a:srgbClr val="00006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0000a4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04e8a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04e8a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62A90-7514-4D1B-8153-63FD0DB4B0CD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ccffff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ccffff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ccffff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ccffff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ccffff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ccffff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37380-4C43-4BBF-A6B2-5B3659123F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09941-2976-42BB-BD10-2459400B3CE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398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sp>
        <p:nvSpPr>
          <p:cNvPr id="411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6C7D0-1513-4DA4-866A-2CD8AE7AD7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454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505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09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510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511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512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3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14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20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1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2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3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4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5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6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7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28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529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0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1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2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3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4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5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6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7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8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9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0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1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2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3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4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5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6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7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48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dt" idx="1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ftr" idx="1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sldNum" idx="1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526D0-EAA6-43E8-A85D-EC923386F860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4"/>
    <p:sldLayoutId id="2147483715" r:id="rId35"/>
    <p:sldLayoutId id="2147483716" r:id="rId36"/>
    <p:sldLayoutId id="2147483717" r:id="rId37"/>
    <p:sldLayoutId id="2147483718" r:id="rId38"/>
    <p:sldLayoutId id="2147483719" r:id="rId39"/>
    <p:sldLayoutId id="2147483720" r:id="rId40"/>
    <p:sldLayoutId id="2147483721" r:id="rId41"/>
    <p:sldLayoutId id="2147483722" r:id="rId42"/>
    <p:sldLayoutId id="2147483723" r:id="rId43"/>
    <p:sldLayoutId id="2147483724" r:id="rId44"/>
    <p:sldLayoutId id="2147483725" r:id="rId4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60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grpSp>
          <p:nvGrpSpPr>
            <p:cNvPr id="60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60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0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60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60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6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E94FC-5E62-4513-BFA0-4CFB2A5CE506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1"/>
    <p:sldLayoutId id="2147483728" r:id="rId32"/>
    <p:sldLayoutId id="2147483729" r:id="rId33"/>
    <p:sldLayoutId id="2147483730" r:id="rId34"/>
    <p:sldLayoutId id="2147483731" r:id="rId35"/>
    <p:sldLayoutId id="2147483732" r:id="rId36"/>
    <p:sldLayoutId id="2147483733" r:id="rId37"/>
    <p:sldLayoutId id="2147483734" r:id="rId38"/>
    <p:sldLayoutId id="2147483735" r:id="rId39"/>
    <p:sldLayoutId id="2147483736" r:id="rId40"/>
    <p:sldLayoutId id="2147483737" r:id="rId41"/>
    <p:sldLayoutId id="2147483738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6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 txBox="1"/>
          <p:nvPr/>
        </p:nvSpPr>
        <p:spPr>
          <a:xfrm>
            <a:off x="228600" y="304920"/>
            <a:ext cx="533412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04e8ac"/>
                </a:solidFill>
                <a:latin typeface="Kristen ITC"/>
              </a:rPr>
              <a:t>Ancient Egyptian</a:t>
            </a:r>
            <a:endParaRPr b="1" lang="en-US" sz="2800" spc="1" strike="noStrike">
              <a:ln w="0">
                <a:noFill/>
              </a:ln>
              <a:solidFill>
                <a:srgbClr val="04e8ac"/>
              </a:solidFill>
              <a:latin typeface="Kristen ITC"/>
              <a:ea typeface="Kristen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04e8ac"/>
                </a:solidFill>
                <a:latin typeface="Kristen ITC"/>
              </a:rPr>
              <a:t> </a:t>
            </a:r>
            <a:r>
              <a:rPr b="1" lang="en-US" sz="2800" spc="1" strike="noStrike">
                <a:ln w="0">
                  <a:noFill/>
                </a:ln>
                <a:solidFill>
                  <a:srgbClr val="04e8ac"/>
                </a:solidFill>
                <a:latin typeface="Kristen ITC"/>
              </a:rPr>
              <a:t>Science </a:t>
            </a:r>
            <a:endParaRPr b="1" lang="en-US" sz="2800" spc="1" strike="noStrike">
              <a:ln w="0">
                <a:noFill/>
              </a:ln>
              <a:solidFill>
                <a:srgbClr val="04e8ac"/>
              </a:solidFill>
              <a:latin typeface="Kristen ITC"/>
              <a:ea typeface="Kristen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04e8ac"/>
                </a:solidFill>
                <a:latin typeface="Kristen ITC"/>
              </a:rPr>
              <a:t>and Medicine</a:t>
            </a:r>
            <a:endParaRPr b="1" lang="en-US" sz="2800" spc="1" strike="noStrike">
              <a:ln w="0">
                <a:noFill/>
              </a:ln>
              <a:solidFill>
                <a:srgbClr val="04e8ac"/>
              </a:solidFill>
              <a:latin typeface="Kristen ITC"/>
              <a:ea typeface="Kristen ITC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457200" y="4952880"/>
            <a:ext cx="29336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4e8ac"/>
                </a:solidFill>
                <a:latin typeface="Kristen ITC"/>
              </a:rPr>
              <a:t>By: Emily Ehrlich,</a:t>
            </a:r>
            <a:endParaRPr b="1" lang="en-US" sz="2400" spc="1" strike="noStrike">
              <a:ln w="0">
                <a:noFill/>
              </a:ln>
              <a:solidFill>
                <a:srgbClr val="04e8ac"/>
              </a:solidFill>
              <a:latin typeface="Kristen ITC"/>
              <a:ea typeface="Kristen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4e8ac"/>
                </a:solidFill>
                <a:latin typeface="Kristen ITC"/>
              </a:rPr>
              <a:t> </a:t>
            </a:r>
            <a:r>
              <a:rPr b="1" lang="en-US" sz="2400" spc="1" strike="noStrike">
                <a:ln w="0">
                  <a:noFill/>
                </a:ln>
                <a:solidFill>
                  <a:srgbClr val="04e8ac"/>
                </a:solidFill>
                <a:latin typeface="Kristen ITC"/>
              </a:rPr>
              <a:t>Sara Baran, </a:t>
            </a:r>
            <a:endParaRPr b="1" lang="en-US" sz="2400" spc="1" strike="noStrike">
              <a:ln w="0">
                <a:noFill/>
              </a:ln>
              <a:solidFill>
                <a:srgbClr val="04e8ac"/>
              </a:solidFill>
              <a:latin typeface="Kristen ITC"/>
              <a:ea typeface="Kristen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4e8ac"/>
                </a:solidFill>
                <a:latin typeface="Kristen ITC"/>
              </a:rPr>
              <a:t>and Gabbi Stobb</a:t>
            </a:r>
            <a:endParaRPr b="1" lang="en-US" sz="2400" spc="1" strike="noStrike">
              <a:ln w="0">
                <a:noFill/>
              </a:ln>
              <a:solidFill>
                <a:srgbClr val="04e8ac"/>
              </a:solidFill>
              <a:latin typeface="Kristen ITC"/>
              <a:ea typeface="Kristen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 Narrow"/>
              </a:rPr>
              <a:t>Introducti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On top of the Ancient Egyptians’ developments in writing, they made advances in fields of astronomy, mathematics, and medic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Among citizens of the ancient world, Egypt was known as a land of great and highly valued lear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5" dur="1000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" dur="1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2" dur="1000"/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/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" dur="1000"/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9" dur="1000"/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/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1" dur="1000"/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Tempus Sans ITC"/>
              </a:rPr>
              <a:t>Keeping Track of Tim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mpus Sans ITC"/>
              </a:rPr>
              <a:t>Since the Egyptians were agricultural people, they had to be capable of predicting when the Nile River would floo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mpus Sans ITC"/>
              </a:rPr>
              <a:t>Astronomers, scientists who study stars and other objects in the sky, noticed that the Nile began to rise rapidly at about the same time that they were able to see Siriu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mpus Sans ITC"/>
              </a:rPr>
              <a:t>Sirius, otherwise known as the dog star, could be seen in the sky shortly before sunri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mpus Sans ITC"/>
              </a:rPr>
              <a:t>Astronomers worked out the approximate time between the appearances of Siriu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mpus Sans ITC"/>
              </a:rPr>
              <a:t>They found that it came to approximately three hundred sixty-five days, so it became the length of their ye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6" dur="1000"/>
                                        <p:tgtEl>
                                          <p:spTgt spid="6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40" dur="500"/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/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46" dur="500"/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/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52" dur="500"/>
                                        <p:tgtEl>
                                          <p:spTgt spid="7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/>
                                        <p:tgtEl>
                                          <p:spTgt spid="7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58" dur="500"/>
                                        <p:tgtEl>
                                          <p:spTgt spid="7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/>
                                        <p:tgtEl>
                                          <p:spTgt spid="7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urlz MT"/>
              </a:rPr>
              <a:t>Mathematic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urlz MT"/>
              </a:rPr>
              <a:t>The Egyptians used basic mathematics in finding solutions to conflicts they faced every d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urlz MT"/>
              </a:rPr>
              <a:t>They could add, subtract, multiply, and div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urlz MT"/>
              </a:rPr>
              <a:t>The Egyptians utilized simple fractions as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urlz MT"/>
              </a:rPr>
              <a:t>Math helped them measure stone in order for it to be cut to the proper size to build pyrami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urlz MT"/>
              </a:rPr>
              <a:t>Geometry was used to measure area so the Egyptians could figure out the quantity of taxes for a plot of land.</a:t>
            </a: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7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7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208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3" dur="50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7" dur="50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2" dur="500"/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/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4" dur="500"/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9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0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31" dur="1230" fill="hold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32" dur="1230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33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34" dur="1230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35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1000"/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/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/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3" dur="1000"/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50" dur="1000"/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7d47d"/>
                </a:solidFill>
                <a:latin typeface="Arial"/>
              </a:rPr>
              <a:t>Medicine</a:t>
            </a:r>
            <a:endParaRPr b="0" lang="en-US" sz="6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Religion and medicine went hand in hand in ancient Egypt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Doctors were specially trained priests that used religious practices and their knowledge of diseases to attempt to heal the ill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Supposedly, because of their work on  mummies, the ancient Egyptians knew a great deal of information about the body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By studying the human body, they learned how to give surgery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The set broken bones, and treated many slight injurie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0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1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3" dur="41" fill="hold">
                                          <p:stCondLst>
                                            <p:cond delay="334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5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7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1" dur="41" fill="hold">
                                          <p:stCondLst>
                                            <p:cond delay="334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9" dur="41" fill="hold">
                                          <p:stCondLst>
                                            <p:cond delay="334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4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5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7" dur="41" fill="hold">
                                          <p:stCondLst>
                                            <p:cond delay="334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9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1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5" dur="41" fill="hold">
                                          <p:stCondLst>
                                            <p:cond delay="334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0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1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3" dur="41" fill="hold">
                                          <p:stCondLst>
                                            <p:cond delay="334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5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7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1" dur="2000" fill="hold"/>
                                        <p:tgtEl>
                                          <p:spTgt spid="7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5" dur="3000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3000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3000"/>
                                        <p:tgtEl>
                                          <p:spTgt spid="7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8" dur="3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83" dur="500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xit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91" dur="500"/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/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/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/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xit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99" dur="500"/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/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/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/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xit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07" dur="500"/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/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/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/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xit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15" dur="500"/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/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/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/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xit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23" dur="500"/>
                                        <p:tgtEl>
                                          <p:spTgt spid="7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/>
                                        <p:tgtEl>
                                          <p:spTgt spid="7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/>
                                        <p:tgtEl>
                                          <p:spTgt spid="7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/>
                                        <p:tgtEl>
                                          <p:spTgt spid="7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Bradley Hand ITC"/>
              </a:rPr>
              <a:t>Medicine (continued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The Egyptians understood the concept of herbali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Herbalism is the practice of composing medicines from pla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The natural remedies were used to help ease common, everyday sicknesses such as headaches and stomachach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At home, mothers prepared their own remedies, or cures, to reduce their children’s fev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The Egyptians wrote a lot of their medical knowledge down on papyrus, which the ancient Greeks and Romans used centuries later.  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3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7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7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7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7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7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7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7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7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7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7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7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7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7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7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7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7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482" dur="2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87" dur="50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1" dur="50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96" dur="500"/>
                                        <p:tgtEl>
                                          <p:spTgt spid="7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/>
                                        <p:tgtEl>
                                          <p:spTgt spid="7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/>
                                        <p:tgtEl>
                                          <p:spTgt spid="7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/>
                                        <p:tgtEl>
                                          <p:spTgt spid="7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0" dur="500"/>
                                        <p:tgtEl>
                                          <p:spTgt spid="7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05" dur="500"/>
                                        <p:tgtEl>
                                          <p:spTgt spid="7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/>
                                        <p:tgtEl>
                                          <p:spTgt spid="7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/>
                                        <p:tgtEl>
                                          <p:spTgt spid="7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/>
                                        <p:tgtEl>
                                          <p:spTgt spid="7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9" dur="500"/>
                                        <p:tgtEl>
                                          <p:spTgt spid="7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14" dur="500"/>
                                        <p:tgtEl>
                                          <p:spTgt spid="7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/>
                                        <p:tgtEl>
                                          <p:spTgt spid="7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/>
                                        <p:tgtEl>
                                          <p:spTgt spid="7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/>
                                        <p:tgtEl>
                                          <p:spTgt spid="7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8" dur="500"/>
                                        <p:tgtEl>
                                          <p:spTgt spid="7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23" dur="500"/>
                                        <p:tgtEl>
                                          <p:spTgt spid="7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/>
                                        <p:tgtEl>
                                          <p:spTgt spid="7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/>
                                        <p:tgtEl>
                                          <p:spTgt spid="7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/>
                                        <p:tgtEl>
                                          <p:spTgt spid="7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7" dur="500"/>
                                        <p:tgtEl>
                                          <p:spTgt spid="7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7696080" y="5105520"/>
            <a:ext cx="1148040" cy="1600200"/>
          </a:xfrm>
          <a:prstGeom prst="rect">
            <a:avLst/>
          </a:prstGeom>
          <a:ln w="0">
            <a:noFill/>
          </a:ln>
        </p:spPr>
      </p:pic>
      <p:pic>
        <p:nvPicPr>
          <p:cNvPr id="708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1154160" cy="1868400"/>
          </a:xfrm>
          <a:prstGeom prst="rect">
            <a:avLst/>
          </a:prstGeom>
          <a:ln w="0">
            <a:noFill/>
          </a:ln>
        </p:spPr>
      </p:pic>
      <p:pic>
        <p:nvPicPr>
          <p:cNvPr id="709" name="" descr=""/>
          <p:cNvPicPr/>
          <p:nvPr/>
        </p:nvPicPr>
        <p:blipFill>
          <a:blip r:embed="rId3"/>
          <a:stretch/>
        </p:blipFill>
        <p:spPr>
          <a:xfrm>
            <a:off x="228600" y="5181480"/>
            <a:ext cx="1924200" cy="1536840"/>
          </a:xfrm>
          <a:prstGeom prst="rect">
            <a:avLst/>
          </a:prstGeom>
          <a:ln w="0">
            <a:noFill/>
          </a:ln>
        </p:spPr>
      </p:pic>
      <p:pic>
        <p:nvPicPr>
          <p:cNvPr id="710" name="" descr=""/>
          <p:cNvPicPr/>
          <p:nvPr/>
        </p:nvPicPr>
        <p:blipFill>
          <a:blip r:embed="rId4"/>
          <a:stretch/>
        </p:blipFill>
        <p:spPr>
          <a:xfrm>
            <a:off x="7010280" y="30492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 txBox="1"/>
          <p:nvPr/>
        </p:nvSpPr>
        <p:spPr>
          <a:xfrm>
            <a:off x="457200" y="2209680"/>
            <a:ext cx="868680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path path="rect">
                    <a:fillToRect l="50000" t="50000" r="50000" b="50000"/>
                  </a:path>
                </a:gradFill>
                <a:latin typeface="Jokerman"/>
              </a:rPr>
              <a:t>We Hope You Enjoyed Our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path path="rect">
                  <a:fillToRect l="50000" t="50000" r="50000" b="50000"/>
                </a:path>
              </a:gradFill>
              <a:latin typeface="Jokerman"/>
              <a:ea typeface="Joker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path path="rect">
                    <a:fillToRect l="50000" t="50000" r="50000" b="50000"/>
                  </a:path>
                </a:gradFill>
                <a:latin typeface="Jokerman"/>
              </a:rPr>
              <a:t> </a:t>
            </a: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path path="rect">
                    <a:fillToRect l="50000" t="50000" r="50000" b="50000"/>
                  </a:path>
                </a:gradFill>
                <a:latin typeface="Jokerman"/>
              </a:rPr>
              <a:t>Presentation And Learned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path path="rect">
                  <a:fillToRect l="50000" t="50000" r="50000" b="50000"/>
                </a:path>
              </a:gradFill>
              <a:latin typeface="Jokerman"/>
              <a:ea typeface="Joker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path path="rect">
                    <a:fillToRect l="50000" t="50000" r="50000" b="50000"/>
                  </a:path>
                </a:gradFill>
                <a:latin typeface="Jokerman"/>
              </a:rPr>
              <a:t>A Lot!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path path="rect">
                  <a:fillToRect l="50000" t="50000" r="50000" b="50000"/>
                </a:path>
              </a:gradFill>
              <a:latin typeface="Jokerman"/>
              <a:ea typeface="Jokerman"/>
            </a:endParaRPr>
          </a:p>
        </p:txBody>
      </p:sp>
      <p:pic>
        <p:nvPicPr>
          <p:cNvPr id="712" name="" descr=""/>
          <p:cNvPicPr/>
          <p:nvPr/>
        </p:nvPicPr>
        <p:blipFill>
          <a:blip r:embed="rId5"/>
          <a:stretch/>
        </p:blipFill>
        <p:spPr>
          <a:xfrm>
            <a:off x="8229600" y="6477120"/>
            <a:ext cx="217440" cy="380880"/>
          </a:xfrm>
          <a:prstGeom prst="rect">
            <a:avLst/>
          </a:prstGeom>
          <a:ln w="0">
            <a:noFill/>
          </a:ln>
        </p:spPr>
      </p:pic>
      <p:pic>
        <p:nvPicPr>
          <p:cNvPr id="713" name="" descr=""/>
          <p:cNvPicPr/>
          <p:nvPr/>
        </p:nvPicPr>
        <p:blipFill>
          <a:blip r:embed="rId6"/>
          <a:stretch/>
        </p:blipFill>
        <p:spPr>
          <a:xfrm>
            <a:off x="77724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6" dur="2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70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5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577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2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3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584" dur="1230" fill="hold"/>
                                        <p:tgtEl>
                                          <p:spTgt spid="710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585" dur="123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586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587" dur="123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588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3" dur="5000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0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9" dur="1000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1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3" restart="whenNotActive" nodeType="interactiveSeq" fill="hold">
                <p:stCondLst>
                  <p:cond evt="onClick">
                    <p:tgtEl>
                      <p:spTgt spid="712"/>
                    </p:tgtEl>
                  </p:cond>
                </p:stCondLst>
                <p:childTnLst>
                  <p:par>
                    <p:cTn id="604" fill="hold">
                      <p:stCondLst>
                        <p:cond evt="onClick">
                          <p:tgtEl>
                            <p:spTgt spid="712"/>
                          </p:tgtEl>
                        </p:cond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7" dur="9614" fill="hold"/>
                                        <p:tgtEl>
                                          <p:spTgt spid="7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8" restart="whenNotActive" nodeType="interactiveSeq" fill="hold">
                <p:stCondLst>
                  <p:cond evt="onClick">
                    <p:tgtEl>
                      <p:spTgt spid="713"/>
                    </p:tgtEl>
                  </p:cond>
                </p:stCondLst>
                <p:childTnLst>
                  <p:par>
                    <p:cTn id="609" fill="hold">
                      <p:stCondLst>
                        <p:cond evt="onClick">
                          <p:tgtEl>
                            <p:spTgt spid="713"/>
                          </p:tgtEl>
                        </p:cond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2" dur="1996" fill="hold"/>
                                        <p:tgtEl>
                                          <p:spTgt spid="7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7:56:51Z</dcterms:created>
  <dc:creator>William Ehrlich</dc:creator>
  <dc:description/>
  <dc:language>en-US</dc:language>
  <cp:lastModifiedBy>Default</cp:lastModifiedBy>
  <dcterms:modified xsi:type="dcterms:W3CDTF">2009-01-14T17:53:35Z</dcterms:modified>
  <cp:revision>16</cp:revision>
  <dc:subject/>
  <dc:title>Slide 1</dc:title>
</cp:coreProperties>
</file>